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0E5C-8412-42C6-93BD-B2E35EA39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work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56B4-42A3-4683-9AC3-018BF8E0E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.5 to 2 hours: speaking warmer (15 mins); vocabulary (15 mins); reading (15 mins); speaking (15 mins); grammar review (15 - 30 mins); writing (15 -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175B-4365-428B-A943-781D5A94E2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in pairs or groups and/or make lists, look up information from the Internet, present ideas to the class. The teacher can monitor and note down errors (especially with present continuous tense) for post-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038C-2CCC-46D1-90AC-937A22FB13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words and definitions could be printed out and cut up for learners to m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591C-3F1B-4FCE-B2A4-8AB808504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now ask each other to explain the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53B6-70E5-4911-8F70-BD8216F8E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the original version of the text – if learners will get discouraged reading it, only allow a short time for them to look at the visuals at this stage – they will be able to understand it better after reading the easier english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6FFE-50AD-4D6F-B4DB-5178454998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and cut up the text and give one country project to each learner in the class, then get learners to mill and exchang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E1F6-A125-4681-BFE7-A47A4C32B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st of the examples are function b) – there are some future plans with function 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EE85-3792-492A-A284-D48C6E9955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form, meaning and phonology of the present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C318-0D06-4430-A54A-B15FB317F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6FC-8409-4636-8255-58F74FDD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F10-9C21-4D42-AA62-1D046A81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F14-2026-4C63-9D0A-98FFFDA7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655-8F08-42ED-BB79-393D0CC2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E77-5D7E-4B6F-BF07-DD749C7C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5B7-176E-46C9-98FA-2A43C5F1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5BA-9304-41AD-BA25-2A586A35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C4F-54B8-4586-AEA0-CA5D4E5D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2C3-4121-4620-BC36-66D62721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D8B-C40D-464E-A429-3E07FC6D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2CB-4BBA-4CD3-ADFC-B61B64F0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CF8-40D1-49BE-8AFB-1CDB9CB2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B4D6-CE62-48BA-B864-14A9670E9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Protecting the planet from climate-chang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365360"/>
            <a:ext cx="806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New Internationalist Easier English Ready Intermediate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3427560" y="476280"/>
            <a:ext cx="5730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Make a poster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ll/show others what is happening around the world to protect the planet - maybe include pictures to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back at the original article and read it – it will seem much easier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5219640" y="479736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599840"/>
            <a:ext cx="878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to prepare fo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different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what is happ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review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resent continu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Calibri"/>
              </a:rPr>
              <a:t>What is climate chang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00000"/>
                </a:solidFill>
                <a:latin typeface="Calibri"/>
              </a:rPr>
              <a:t>What can we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54061"/>
                </a:solidFill>
                <a:latin typeface="Calibri"/>
              </a:rPr>
              <a:t>What can governments around the world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691920"/>
            <a:ext cx="266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) glaci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) to reflect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) power gen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) floo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) earthqua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) microfin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1) amphibi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3) fami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4) biodivers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40000" y="620640"/>
            <a:ext cx="662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a) no food – people die because they can’t get fo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b)  to make something col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) all the different types of animals, plants and living things on ear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) when the earth moves for seconds or minutes and shakes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) it makes electric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) a big wall to keep water out (eg. to protect the 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g) a very big river of 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) a big wall to keep water in (eg. in a lak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) no water – people and animals can d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j) an animal that can live in water and on land eg. a fr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k) beautiful coloured rock in the sea near Austral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l) to make something return where it came from (eg. in a mi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) too much water everywhere from rain and rivers overflow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) a banking system where people borrow a small amount of mone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) a very strong wind that can destroy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KEY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glacier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g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2) to reflect back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3) power generator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5) flood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6) earthquake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8) microfinance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3280" y="188640"/>
            <a:ext cx="4500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1) amphibian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j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3) famine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4) biodiversity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-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oral ree.jpg"/>
          <p:cNvPicPr/>
          <p:nvPr/>
        </p:nvPicPr>
        <p:blipFill>
          <a:blip r:embed="rId1"/>
          <a:stretch/>
        </p:blipFill>
        <p:spPr>
          <a:xfrm>
            <a:off x="6012000" y="5300640"/>
            <a:ext cx="2058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world and think about what’s happ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&amp; 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and think : what’s happening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Protecting_the_planet_against_climate_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Practise: tell your partn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Speak: tell everyone el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rammar review : present continuo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3 main functions/meanings of this ten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hing happening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Look! It’s 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something happening in the time around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studying English this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a future arran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playing football next Monday at 5p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Look at the text and find and underline all the example of the present continuous. Which function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mmar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pairs, write at least one present continuous sentence about what is happening in each country in the tex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. In Canada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y are warn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abou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the US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eople are pain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roofs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3:41:19Z</dcterms:created>
  <dc:creator>IT Technical Support</dc:creator>
  <dc:description/>
  <dc:language>en-US</dc:language>
  <cp:lastModifiedBy>Mix</cp:lastModifiedBy>
  <dcterms:modified xsi:type="dcterms:W3CDTF">2012-10-28T17:10:01Z</dcterms:modified>
  <cp:revision>27</cp:revision>
  <dc:subject/>
  <dc:title>Protecting the planet from climate-change</dc:title>
</cp:coreProperties>
</file>